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C73-2955-4117-A55E-0742051D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AD0-51AD-4DB5-A884-49DF1C39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4D9-6B73-43E4-A4FE-18AC8728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EE5-CB35-4FA5-BC90-66D15E70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F39-6937-47AF-8A37-9A18E4E9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D93-4180-4B02-99A2-2878F678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72F-AA2D-4AAB-B5DC-BA3DF2B7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EE5-831C-4523-A53F-D8068CBB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925-B829-4855-8334-92B2180C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01E-D431-483B-B270-7DFA82B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DCA-4B6D-4ECF-86A5-6405F1B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17D-B4EB-451C-A0D3-6C30DADF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5BE8-E023-4011-B0B6-AF5E53838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merica del norte, central y el Caribe hisp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1143000" y="3733920"/>
            <a:ext cx="838080" cy="99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48120" y="4952880"/>
            <a:ext cx="1295280" cy="228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885840" y="533412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4723920" y="3276720"/>
            <a:ext cx="83844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105160" y="4648320"/>
            <a:ext cx="15228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333760" y="5181480"/>
            <a:ext cx="6858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648320" y="6095880"/>
            <a:ext cx="76176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171840" y="586728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28954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4572000"/>
            <a:ext cx="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952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México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02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Puerto Rico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048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Cub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181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Guatemal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5638680"/>
            <a:ext cx="9907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Panamá 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Honduras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6553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Costa Ric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4876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Nicaragu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1495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Republica Domini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867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El Salvador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9456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326600">
            <a:off x="4522320" y="153144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563868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86200"/>
            <a:ext cx="259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615000">
            <a:off x="1523520" y="19494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5257800"/>
            <a:ext cx="119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78200" y="16765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7339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92400" y="2041560"/>
            <a:ext cx="64152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97520" y="3184560"/>
            <a:ext cx="64116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438280"/>
            <a:ext cx="641520" cy="398520"/>
          </a:xfrm>
          <a:prstGeom prst="rect">
            <a:avLst/>
          </a:prstGeom>
          <a:solidFill>
            <a:srgbClr val="386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4520" y="4937040"/>
            <a:ext cx="641160" cy="24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971800"/>
            <a:ext cx="488880" cy="2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233000">
            <a:off x="4495680" y="4281120"/>
            <a:ext cx="457200" cy="214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2096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133360" y="25909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3623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8862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19520" y="4419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943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5181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44197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Arial"/>
              </a:rPr>
              <a:t>Ame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8520" y="182880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26480" y="1523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46160" y="39625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9080" y="50292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3800" y="52578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Uru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07160" y="60199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39320" y="42670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8280" y="3429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1160" y="24224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848120" cy="5438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57400" y="3809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86200"/>
            <a:ext cx="3352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895480" cy="235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2057400" y="3352680"/>
            <a:ext cx="22096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720" y="-7668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160" y="28954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uinea Ecua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981080" y="761760"/>
            <a:ext cx="13716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81280" y="53352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" y="7621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440" y="304920"/>
            <a:ext cx="9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l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27:04Z</dcterms:created>
  <dc:creator>Helen Zumaeta</dc:creator>
  <dc:description/>
  <dc:language>en-US</dc:language>
  <cp:lastModifiedBy>Helen Zumaeta</cp:lastModifiedBy>
  <dcterms:modified xsi:type="dcterms:W3CDTF">2011-09-16T16:38:32Z</dcterms:modified>
  <cp:revision>2</cp:revision>
  <dc:subject/>
  <dc:title>America del norte, central y el Caribe hispano</dc:title>
</cp:coreProperties>
</file>